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083-F0FB-4D67-AC87-A4F8A467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91C-1D60-4695-B965-4F753691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9F7-2260-441B-9BCC-CBED21BA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E56-754C-49CC-91CD-EAD206BF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E28-A4D8-4245-9086-D65C828F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5B8-60CB-4BCF-8E5A-5AB12F5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8BE-DB70-4018-A16E-424DCA52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735-2656-407E-80E2-524F7570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3A9-894B-474A-BB15-0CA2EDB2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E42-009E-4ABF-B037-88E27A85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ACC-F1EC-44F5-820B-1F70215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A71-B897-4CEE-83F8-FBA8A12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F4F-F7B3-4A9F-9BFE-138322E8331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9 Pán Ježiš ťa volá k s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ťa volá k seb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čo otáľa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rdce ti ešte klop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dy mu ho dá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lho nevieš rozhodnúť sa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čo čakáš len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rýchlo uplynie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jd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hodni sa pre Ježi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ťa vol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ú k nemu otvore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vere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späť už sa neobzer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rnosť všetko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premeškaj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môžeš získať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deň svojej spásy zmešk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eš ľut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mo budeš potom pros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rne nariek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koro je!  Strašné slov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stratené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jde niekde pokoj srdc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om zmámené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enia deň dosiaľ trv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ešte stále z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vého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ácne poz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ou smrťou vykúpil 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čuj jeho hlas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ťa ešte s láskou pri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je spásy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40:04Z</dcterms:modified>
  <cp:revision>32</cp:revision>
  <dc:subject/>
  <dc:title>Je veľký náš Pán, on slávy je Kráľ Nech do všetkých strán  spev vrúcnych znie chvál.</dc:title>
</cp:coreProperties>
</file>